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276706"/>
        <c:axId val="97610364"/>
      </c:barChart>
      <c:catAx>
        <c:axId val="462767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10364"/>
        <c:crosses val="autoZero"/>
        <c:auto val="1"/>
        <c:lblAlgn val="ctr"/>
        <c:lblOffset val="100"/>
        <c:noMultiLvlLbl val="0"/>
      </c:catAx>
      <c:valAx>
        <c:axId val="976103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767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A77E-C36E-46CD-B49B-45E45916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9E3B-4D06-4F31-B143-78498684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1D3E-0E37-47DD-A630-3FB8DEEF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EC18-A67B-40E2-9431-24C6E087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5F5C-27FC-4AB5-B4F8-FD4C1AD3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B251-F742-4204-9F44-E1B37399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43F7-4D8B-4BCB-BCBB-6DFBC147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3AC2-8C40-4CBA-8257-24010F6C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F7A8-D23F-4818-BA33-A847A5B3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B290-E382-4A6A-B3A4-49827A22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551D-6CA4-4BB9-AFB3-6B09EBE9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652C-A69E-4AFF-9693-2C6EDA59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AF4A7-1271-4C2D-85CF-5E0D80AE25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