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7305784"/>
        <c:axId val="39488105"/>
      </c:barChart>
      <c:catAx>
        <c:axId val="2730578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488105"/>
        <c:crosses val="autoZero"/>
        <c:auto val="1"/>
        <c:lblAlgn val="ctr"/>
        <c:lblOffset val="100"/>
        <c:noMultiLvlLbl val="0"/>
      </c:catAx>
      <c:valAx>
        <c:axId val="3948810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30578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2B60B-F4CB-4E36-B916-1F027A7A6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CB1D0-D92A-4E5A-84FD-D0895304D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403AC-9A1C-41C8-98D2-1616F614C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AFD6D-FD2B-4D62-A839-9AA5FF6D7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226C5-27EA-4A9F-B83A-83D5B179A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B0CBA-3C29-439E-AB82-90DD65483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6CD69-678A-43D7-983C-F98E7C3D9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47CB5-4473-483B-8F9B-7CA104879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7D286-A608-4260-91E3-12F6E3933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64A6E-4B99-46AD-9D9C-987F70937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8306D-4EAB-421A-83E1-2346B6DCF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02BDA-38C0-47BC-82F2-114BD6FED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BFB056-7010-4203-B146-9EF0FF936D9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