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641557"/>
        <c:axId val="53303858"/>
      </c:barChart>
      <c:catAx>
        <c:axId val="386415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03858"/>
        <c:crosses val="autoZero"/>
        <c:auto val="1"/>
        <c:lblAlgn val="ctr"/>
        <c:lblOffset val="100"/>
        <c:noMultiLvlLbl val="0"/>
      </c:catAx>
      <c:valAx>
        <c:axId val="533038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415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EF6-DC4C-44CF-9A6A-60C1253E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C2F-42FF-46E9-AAF2-348E655D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2B7-CC57-4776-81DA-C458375E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6B9-E690-46F2-A05D-A6EF1365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042-A905-4DAF-873C-C86369C8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0ED5-2647-4FA5-99FA-525E401D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03F2-FF02-449A-8237-91546373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61C-65FD-46BC-B7B1-36020F43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6CFF-0DF8-4FF5-A734-3EFD95D8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BF62-27E9-4600-A0CE-D7F9CFFD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972-E0D5-4C9C-8D5A-B80C3D32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3E01-2B5A-46A2-9AD2-870CEF51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E024C-80EF-4BC8-8E43-D40F1EA148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