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799"/>
        <c:axId val="64015904"/>
      </c:barChart>
      <c:catAx>
        <c:axId val="6782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5904"/>
        <c:crosses val="autoZero"/>
        <c:auto val="1"/>
        <c:lblAlgn val="ctr"/>
        <c:lblOffset val="100"/>
        <c:noMultiLvlLbl val="0"/>
      </c:catAx>
      <c:valAx>
        <c:axId val="64015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8F5-B1A2-4128-AA12-A11CD8D1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408-72D8-49D9-8F3C-9E0A2599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C28-ED58-4046-B166-6F35CC2D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463-6406-4180-B58C-7F8640CD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D0A-2FA8-4A01-8928-DF0C393A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55A-A6F7-4F1C-97FA-3A04E7D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2A6-D8BF-490D-B272-A5527AD4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FDB-EFEB-47D0-ACBB-34E0C301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96F-FF54-4539-AB37-6102C12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D8A-F4BC-4AB2-BA41-B7EE81B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982-C658-40E7-B443-63DE26FE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B94-3431-445D-8AB7-CD7065C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B9EDD-B0DF-4267-A5B6-181DC8BCD2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