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90074"/>
        <c:axId val="61831675"/>
      </c:barChart>
      <c:catAx>
        <c:axId val="55990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1675"/>
        <c:crosses val="autoZero"/>
        <c:auto val="1"/>
        <c:lblAlgn val="ctr"/>
        <c:lblOffset val="100"/>
        <c:noMultiLvlLbl val="0"/>
      </c:catAx>
      <c:valAx>
        <c:axId val="61831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0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50C-D5B5-4527-BD34-FD983163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E6B-9FC4-4EB0-B307-E445D20E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FD7-E8C8-4E73-9337-CF637BB8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1DD-D10D-4BD8-B20C-4F896E54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3C5-27C1-4504-B9C3-8EA0DE6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158-9E5C-4747-A09A-3F3581A3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8CB-455C-4BFC-AB9C-A71D9A3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5D5-B45C-480A-B8E3-70D4702F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F50-A74F-4BC9-A3D4-8F1EE8A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D23-FBC3-405B-8885-81EB026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11A-C5C4-41E0-9DC9-186BD6D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FF0-11E4-4F59-BB4F-81CD082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F0AD-C6BA-46BD-85DA-CE6320D44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